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1EDF-7F40-4A1B-92C2-A35FAE502C6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45E0-438B-454A-AABE-B637A9DC173D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66E-6768-47E2-BF11-633A3CAF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91C-A877-47DE-942F-DB3DA263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9AA-1B18-45FD-B06A-9CAF82EF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ACD-5A4E-4513-89F1-D6DF08A6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06E7-7C8D-4E1D-99D9-F8AFFA2F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3469-7326-44C7-96D2-655D4DDE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D6C0-EDF7-4092-A63C-57F2BAA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65A5-EBC6-48E7-8587-15DDACFD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926A-F2A1-471F-857E-A6FC51A4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D6E3-2367-4A1C-B627-EB96620B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4DFA-0DE5-4671-973A-E2446C51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317-441B-41EB-A04B-D79EBE85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BB29-C90F-483D-9E29-E4603184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DC3-12DD-4E7A-A831-285F944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1986-7C30-489C-8B8D-AD944B5E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82C6-F9B6-4C90-B4DC-456E8F12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767B-34F7-472E-A59A-B7E4ED52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A8B-B5D0-473F-AEE3-EC6A8AAF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753-7745-4737-9A55-2820E8F3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247-BC89-4E8E-8422-020395E3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67D-C731-47B7-89A7-1BED64D3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1D1-8E34-4697-9D4D-F36F82CD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ABF-B1C1-41F6-9BAE-DE08A81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F21-A6F6-4569-B87C-D595D6AF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8299-4209-4EC0-8AF5-70030D64904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37C8-2872-49FF-B9E6-B273436737E4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76720" y="3645000"/>
            <a:ext cx="30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5" descr="Image result for atomic model"/>
          <p:cNvPicPr/>
          <p:nvPr/>
        </p:nvPicPr>
        <p:blipFill>
          <a:blip r:embed="rId1"/>
          <a:stretch/>
        </p:blipFill>
        <p:spPr>
          <a:xfrm>
            <a:off x="2987640" y="2637000"/>
            <a:ext cx="2571840" cy="28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Image result for atomic model"/>
          <p:cNvPicPr/>
          <p:nvPr/>
        </p:nvPicPr>
        <p:blipFill>
          <a:blip r:embed="rId2"/>
          <a:stretch/>
        </p:blipFill>
        <p:spPr>
          <a:xfrm>
            <a:off x="324000" y="2936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 result for atomic model schrodinger"/>
          <p:cNvPicPr/>
          <p:nvPr/>
        </p:nvPicPr>
        <p:blipFill>
          <a:blip r:embed="rId3"/>
          <a:stretch/>
        </p:blipFill>
        <p:spPr>
          <a:xfrm>
            <a:off x="6084720" y="2911320"/>
            <a:ext cx="2590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est Rutherford proposed shooting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s://upload.wikimedia.org/wikipedia/commons/thumb/f/f9/Geiger-Marsden_experiment_expectation_and_result.svg/1024px-Geiger-Marsden_experiment_expectation_and_result.svg.png"/>
          <p:cNvPicPr/>
          <p:nvPr/>
        </p:nvPicPr>
        <p:blipFill>
          <a:blip r:embed="rId1"/>
          <a:stretch/>
        </p:blipFill>
        <p:spPr>
          <a:xfrm>
            <a:off x="1193760" y="692280"/>
            <a:ext cx="625320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particles should be undeflected but observed to bounce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Image result for rutherford model"/>
          <p:cNvPicPr/>
          <p:nvPr/>
        </p:nvPicPr>
        <p:blipFill>
          <a:blip r:embed="rId1"/>
          <a:stretch/>
        </p:blipFill>
        <p:spPr>
          <a:xfrm>
            <a:off x="539640" y="1197000"/>
            <a:ext cx="762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4114800" y="765000"/>
            <a:ext cx="40132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(electromagnetic radiation) is emitted from matter at particular energies, or qua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ttps://upload.wikimedia.org/wikipedia/commons/thumb/a/a5/Bohr_atom_model_English.svg/420px-Bohr_atom_model_English.svg.png"/>
          <p:cNvPicPr/>
          <p:nvPr/>
        </p:nvPicPr>
        <p:blipFill>
          <a:blip r:embed="rId1"/>
          <a:stretch/>
        </p:blipFill>
        <p:spPr>
          <a:xfrm>
            <a:off x="1403280" y="115920"/>
            <a:ext cx="59054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elated image"/>
          <p:cNvPicPr/>
          <p:nvPr/>
        </p:nvPicPr>
        <p:blipFill>
          <a:blip r:embed="rId1"/>
          <a:stretch/>
        </p:blipFill>
        <p:spPr>
          <a:xfrm>
            <a:off x="-1260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kanada atomic theory"/>
          <p:cNvPicPr/>
          <p:nvPr/>
        </p:nvPicPr>
        <p:blipFill>
          <a:blip r:embed="rId2"/>
          <a:stretch/>
        </p:blipFill>
        <p:spPr>
          <a:xfrm>
            <a:off x="4356000" y="2492280"/>
            <a:ext cx="1919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mage result for orbitals s p d f"/>
          <p:cNvPicPr/>
          <p:nvPr/>
        </p:nvPicPr>
        <p:blipFill>
          <a:blip r:embed="rId1"/>
          <a:stretch/>
        </p:blipFill>
        <p:spPr>
          <a:xfrm>
            <a:off x="-1440" y="0"/>
            <a:ext cx="9294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9" descr="Image result for atomic model schrodinger"/>
          <p:cNvPicPr/>
          <p:nvPr/>
        </p:nvPicPr>
        <p:blipFill>
          <a:blip r:embed="rId1"/>
          <a:stretch/>
        </p:blipFill>
        <p:spPr>
          <a:xfrm>
            <a:off x="1619280" y="94464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 P584 Q 1.1-1.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Image result for atomic model schrodinger"/>
          <p:cNvPicPr/>
          <p:nvPr/>
        </p:nvPicPr>
        <p:blipFill>
          <a:blip r:embed="rId1"/>
          <a:stretch/>
        </p:blipFill>
        <p:spPr>
          <a:xfrm>
            <a:off x="324000" y="1760400"/>
            <a:ext cx="8256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" descr="Related image"/>
          <p:cNvPicPr/>
          <p:nvPr/>
        </p:nvPicPr>
        <p:blipFill>
          <a:blip r:embed="rId1"/>
          <a:stretch/>
        </p:blipFill>
        <p:spPr>
          <a:xfrm>
            <a:off x="4473720" y="765000"/>
            <a:ext cx="437328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Related image"/>
          <p:cNvPicPr/>
          <p:nvPr/>
        </p:nvPicPr>
        <p:blipFill>
          <a:blip r:embed="rId2"/>
          <a:stretch/>
        </p:blipFill>
        <p:spPr>
          <a:xfrm>
            <a:off x="20520" y="765000"/>
            <a:ext cx="4238640" cy="44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9760" y="25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Image result for history of atom"/>
          <p:cNvPicPr/>
          <p:nvPr/>
        </p:nvPicPr>
        <p:blipFill>
          <a:blip r:embed="rId1"/>
          <a:stretch/>
        </p:blipFill>
        <p:spPr>
          <a:xfrm>
            <a:off x="179280" y="-100080"/>
            <a:ext cx="6077160" cy="456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2013120" y="1981080"/>
            <a:ext cx="511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41400" y="307800"/>
            <a:ext cx="91026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8600" y="898200"/>
            <a:ext cx="4486320" cy="22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lated image"/>
          <p:cNvPicPr/>
          <p:nvPr/>
        </p:nvPicPr>
        <p:blipFill>
          <a:blip r:embed="rId1"/>
          <a:stretch/>
        </p:blipFill>
        <p:spPr>
          <a:xfrm>
            <a:off x="108000" y="1159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988640"/>
            <a:ext cx="5135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against atomic theory and believed everything was composed of the 5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nfluential for 2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Image result for aristotle"/>
          <p:cNvPicPr/>
          <p:nvPr/>
        </p:nvPicPr>
        <p:blipFill>
          <a:blip r:embed="rId1"/>
          <a:stretch/>
        </p:blipFill>
        <p:spPr>
          <a:xfrm>
            <a:off x="5148360" y="3747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iard b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of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Image result for john dalton billiard ball model"/>
          <p:cNvPicPr/>
          <p:nvPr/>
        </p:nvPicPr>
        <p:blipFill>
          <a:blip r:embed="rId1"/>
          <a:stretch/>
        </p:blipFill>
        <p:spPr>
          <a:xfrm>
            <a:off x="4896000" y="6480"/>
            <a:ext cx="4032000" cy="40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age result for john dalton billiard ball model"/>
          <p:cNvPicPr/>
          <p:nvPr/>
        </p:nvPicPr>
        <p:blipFill>
          <a:blip r:embed="rId2"/>
          <a:stretch/>
        </p:blipFill>
        <p:spPr>
          <a:xfrm>
            <a:off x="3995640" y="41814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Content Placeholder 5" descr="Image result for dalton atomic model"/>
          <p:cNvPicPr/>
          <p:nvPr/>
        </p:nvPicPr>
        <p:blipFill>
          <a:blip r:embed="rId1"/>
          <a:stretch/>
        </p:blipFill>
        <p:spPr>
          <a:xfrm>
            <a:off x="108000" y="1571760"/>
            <a:ext cx="876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p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age result for jj thomson"/>
          <p:cNvPicPr/>
          <p:nvPr/>
        </p:nvPicPr>
        <p:blipFill>
          <a:blip r:embed="rId1"/>
          <a:stretch/>
        </p:blipFill>
        <p:spPr>
          <a:xfrm>
            <a:off x="5076720" y="1125360"/>
            <a:ext cx="34340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p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2-15T21:21:27Z</dcterms:modified>
  <cp:revision>46</cp:revision>
  <dc:subject/>
  <dc:title>Sir Joseph John Thompson</dc:title>
</cp:coreProperties>
</file>